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329-A3F1-4D5F-8076-D81C9946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B04-4DFD-40A7-B536-25D85986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242-1E8E-4269-BE2B-CEFC05C8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A62-C484-4936-95BE-BA362BDD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1C81-6291-41C6-8D7C-83F5FAAC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6199-7741-4C97-ABD2-317EF8BD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9B01-BE0B-4164-B7B9-9D32835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DCD-9A61-4D53-96A3-D672366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F88-F89E-40F9-8BD4-6D407F71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074-CF43-4BA9-8BC6-33CF5FE3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650-F04E-476D-B41A-B6BBD6F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FF9-C53E-4B5F-AE3A-ABF17A9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5B1-019F-4082-97CE-81F00EB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DA7-6A89-4C99-99D4-C82294C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3BDA-064B-4A7A-B250-98B2631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798-6EC6-47EA-AE96-FA264F36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3C09-4403-47B4-A988-2BD9E44D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85E3-0DE7-41DB-B2EE-9A9CA8D4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A21FA-C492-44F5-8F25-B6B8F00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CB8B9-F154-4558-9C11-53567A8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34A40-CD41-456B-BB11-04AD2154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9579F-1B2C-495F-82F6-B23CE94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6CE-57F5-4336-9839-D1F9E52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1FDF6-7AF0-4537-ACBE-883A52E2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63700-3BA9-4992-93ED-8F330BF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07CCB-D222-47F9-9303-4A08859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ADC7B-F8A5-4AA3-9352-ED920B1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C00E1-5579-479A-9D4C-834BE22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12BB3-4F06-456E-9056-8F0B74DD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6DF86-CCAB-4B43-8FBE-37216242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90EA-54A8-4504-8193-F30EA646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D32D-FFFC-4AD4-98FD-A271C062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9BC6-91A8-4CA7-B239-368E23BE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B9C-8B3F-40AE-96BB-457BAAD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CC7F-BC64-4BD5-8417-F20DC0D1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C372-D35C-420D-82C6-2020784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FF41-BB42-4544-8FB5-52B85C9A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ABD10-5B6D-4534-8161-07BE7C3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EE1C-B6A4-4620-97EE-D61E106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1786-1C97-4EDB-ACB2-99A2315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63B2-248F-4CC7-84EF-8877F1B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52EE-E688-4F08-AEC1-2ABD3200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74A3-B8F4-4146-AA54-395ED610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D9EE4-EEF6-47BC-8C38-F3DF8B5F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237-7978-4ED2-9877-F85885DA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72B41-19F0-4B2C-861B-3AB222D9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3E8AA-B828-4873-B58A-3D53421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0D3D9-4901-47EA-9390-8DC5746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B82EB-7E30-4632-96A9-59DE8BAF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80C66-DE64-4398-9F90-8271A9E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B3A89-BA16-4DF8-824A-B7C77AFB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4FA45-33C9-496B-8AC0-E6AC9C0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A3292-B669-4068-A179-71D40D4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26D61-C691-48C3-B4A3-2113C782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2125E-E947-4A1F-AAB2-63F820B9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29C-3C79-4DB9-80CA-3AD4E091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AF8CB-ECE3-4F20-9268-21E5F42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27B75-D496-4F44-A8C4-E09F4A03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B1A4E-55AD-46F3-B263-F7DF85F9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C0602-BD12-478F-8E39-B511B9B1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6DA18-AF59-4931-B61D-32CAB906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70055-A727-4B8D-AE30-8420E60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FEE87-C8D8-4576-B3A8-B7AED8B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42086-28DF-411E-993F-DF84E91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3A84E-07FE-4B64-9D2B-5D062378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4144E-06FC-4154-A0C4-D0812EA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322-E9E0-4D9F-90B7-FB770546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DB62E-D097-4879-9B65-AB10B89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978E0-7C24-4B7A-A845-8C444FAE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E8C13-03A2-45A7-A066-6C7C7E71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4DBE7-4A8D-432B-AD75-11DDC8A1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D8801-DC0A-4DF0-8AA3-7837D933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3ADFA-3341-4DB3-8E97-DC7E684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2DFA9-EF71-4C57-8751-550A1810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3E14E-E74E-4A10-96A1-364B6AA8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971F0-439D-4156-AC7E-5DA8107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6B112-8FD1-4DAA-862B-225FBF5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A17-7D31-469C-BF1B-89E445C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D9BF8-50CE-4CBB-8A81-E04FE26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76EE2-1BB6-4B6E-9631-6B2210C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45E85-2F72-4E4C-8F59-4629A0D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06735-39EF-4535-9F7D-37CAD996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FB36A-86B2-4EA4-A830-31E7CB36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85F-D652-46EA-BC88-8CDD96C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7DA-A903-43DD-BEEE-FEEA081EF4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直接连接符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椭圆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椭圆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A7A3-8FA9-4D56-9CB6-7EB87930B2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F67-9D48-4254-A465-B894709C09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椭圆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椭圆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椭圆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椭圆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椭圆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直接连接符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6EFC-7FA5-4072-B102-82764BD4D8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645-AFA5-4C40-B9AF-D6C5C6286E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直接连接符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直接连接符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椭圆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37DF-64E6-46A6-BAB9-7EB5FC53D3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椭圆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直接连接符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直接连接符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直接连接符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直接连接符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20FC-C5A0-4E6A-9FBD-82A21DFB84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604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华文行楷"/>
                <a:ea typeface="华文行楷"/>
              </a:rPr>
              <a:t>         </a:t>
            </a:r>
            <a:r>
              <a:rPr b="1" lang="zh-CN" sz="49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七章   </a:t>
            </a:r>
            <a:br>
              <a:rPr sz="4900"/>
            </a:br>
            <a:r>
              <a:rPr b="1" lang="zh-CN" sz="49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成本计算方法概述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292720" y="47242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6600cc"/>
                </a:solidFill>
                <a:latin typeface="楷体"/>
                <a:ea typeface="楷体"/>
              </a:rPr>
              <a:t>李会青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620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装配式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如为大量、大批生产，成本计算方法与连续式多步骤生产基本相同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如为单件、小批生产，以产品的批别或件别作为成本计算对象，又由于其产量较小且基本上是同时完工，成本计算只能在产品完工后才能进行，其成本计算期与生产周期一致，也就不存在生产费用在完工产品和月末在产品之间分配的问题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三种不同的成本计算对象</a:t>
            </a:r>
            <a:r>
              <a:rPr b="0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80640"/>
            <a:ext cx="86756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大量大批单步骤生产，或大量大批多步骤生产情况下，成本管理上不要求按生产步骤计算成本时，成本计算对象就是全厂某月份生产的某种产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品种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大量大批、多步骤生产情况下，成本管理上要求按生产步骤计算成本时，成本计算对象为各步骤某月份生产的半成品或产成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的生产步骤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单件小批生产情况下，无论单步骤生产还是多步骤生产，成本计算对象通常是某一批或某一件产成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的批别或件别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5616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 、成本计算方法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10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基本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9640" y="1700280"/>
          <a:ext cx="8353440" cy="4821120"/>
        </p:xfrm>
        <a:graphic>
          <a:graphicData uri="http://schemas.openxmlformats.org/drawingml/2006/table">
            <a:tbl>
              <a:tblPr/>
              <a:tblGrid>
                <a:gridCol w="1393920"/>
                <a:gridCol w="1390680"/>
                <a:gridCol w="1393920"/>
                <a:gridCol w="1390680"/>
                <a:gridCol w="1393560"/>
                <a:gridCol w="1390680"/>
              </a:tblGrid>
              <a:tr h="3988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计算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计算对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期末在产品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适用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生产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品种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品品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按月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会计报告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单步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单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多步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多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分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品批次或件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定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生产周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一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单件小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分步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每种产品及各步骤半成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按月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会计报告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多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5"/>
          <p:cNvSpPr/>
          <p:nvPr/>
        </p:nvSpPr>
        <p:spPr>
          <a:xfrm>
            <a:off x="1143000" y="4114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33336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entury Schoolbook"/>
              </a:rPr>
              <a:t>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辅助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不能独立运用，必须与基本方法结合使用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分类法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：以产品类别作为成本计算对象，先按大类归集费用，再在类内分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适用于：品种规格型号繁多，同类产品结构、用料和生产工艺基本相同的企业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定额法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： 定额成本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脱离定额差异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定额变动差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适用于：定额制度健全、定额基础好、准确稳定、产品基本定型的企业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简化成本计算工作，加强成本管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9280" y="692280"/>
            <a:ext cx="7993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Century Schoolbook"/>
              </a:rPr>
              <a:t>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前沿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1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变动成本法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：产品成本只计算变动成本，固定成本计入当期损益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用于短期生产经营决策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2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标准成本法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：产品成本只计算标准成本，标准成本与实际成本的差异计入当期损益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用于内部成本控制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3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作业成本法：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将生产过程分为连续的作业，核算每一个作业中心的成本和利润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6251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</a:t>
            </a:r>
            <a:r>
              <a:rPr b="1" lang="en-US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[</a:t>
            </a: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章重点</a:t>
            </a:r>
            <a:r>
              <a:rPr b="1" lang="en-US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]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920" y="1989000"/>
            <a:ext cx="7058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制造业的生产特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三种基本成本计算方法的特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3454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一节     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生产特点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管理要求</a:t>
            </a:r>
            <a:br>
              <a:rPr sz="3200"/>
            </a:b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对成本计算方法的影响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8000" y="16012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制造业的生产特点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生产组织和生产工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图示 3" descr=""/>
          <p:cNvPicPr/>
          <p:nvPr/>
        </p:nvPicPr>
        <p:blipFill>
          <a:blip r:embed="rId1"/>
          <a:stretch/>
        </p:blipFill>
        <p:spPr>
          <a:xfrm>
            <a:off x="749160" y="2530440"/>
            <a:ext cx="78519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360" y="333000"/>
            <a:ext cx="8712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大量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断地重复生产品种相同的产品。例如冶金、采掘、纺织、面粉、化肥、造纸、酿酒等的生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成批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照预定的产品批别和数量进行的生产。分为大批生产和小批生产。例如服装、机床等的生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单件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订货单位的要求，生产个别的、性质特殊的产品的生产。例如重型机器、船舶、专用设备等以及新产品的试制等。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示 3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076960" cy="2414520"/>
          </a:xfrm>
          <a:prstGeom prst="rect">
            <a:avLst/>
          </a:prstGeom>
          <a:ln w="0">
            <a:noFill/>
          </a:ln>
        </p:spPr>
      </p:pic>
      <p:sp>
        <p:nvSpPr>
          <p:cNvPr id="358" name="矩形 4"/>
          <p:cNvSpPr/>
          <p:nvPr/>
        </p:nvSpPr>
        <p:spPr>
          <a:xfrm>
            <a:off x="611280" y="29973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单步骤生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75f6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单生产，生产工艺过程不能间断、或者是不便于分散在几个不同地点进行的生产，例如发电、采掘、铸件等工业生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0" y="47628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杂生产，生产工艺过程可以间断、分散在不同地点、分别在不同时间进行的生产步骤所组成的生产，可以由一个企业的各个车间进行，也可以由几个企业协作进行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按其产品的加工方式，又可分为连续式生产和装配式生产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。连续式生产如纺织、冶金、造纸、服装等。装配式例如机械、车辆、电子、仪表等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工业企业的生产类型如图所示</a:t>
            </a:r>
            <a:r>
              <a:rPr b="1" lang="zh-CN" sz="3200" spc="-1" strike="noStrike">
                <a:solidFill>
                  <a:srgbClr val="575f6d"/>
                </a:solidFill>
                <a:latin typeface="Century Schoolbook"/>
              </a:rPr>
              <a:t>：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431640" y="1484280"/>
            <a:ext cx="15373440" cy="3818880"/>
            <a:chOff x="431640" y="1484280"/>
            <a:chExt cx="15373440" cy="3818880"/>
          </a:xfrm>
        </p:grpSpPr>
        <p:graphicFrame>
          <p:nvGraphicFramePr>
            <p:cNvPr id="363" name="Object 4"/>
            <p:cNvGraphicFramePr/>
            <p:nvPr/>
          </p:nvGraphicFramePr>
          <p:xfrm>
            <a:off x="431640" y="1484280"/>
            <a:ext cx="15373440" cy="3799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1640" y="1484280"/>
                      <a:ext cx="15373440" cy="379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Text Box 5"/>
            <p:cNvSpPr/>
            <p:nvPr/>
          </p:nvSpPr>
          <p:spPr>
            <a:xfrm>
              <a:off x="8292960" y="48434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产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857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生产特点和管理要求对成本计算方法的影响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成本计算对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对象，即在成本计算过程中，为归集和分配生产费用而确定的承受对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、费用的承担者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对象一般由以下几个要素构成：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生产费用归属的实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何种产品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主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空间范围。包括全厂（产品生产的整个过程）、车间（产品生产的步骤）、（产品生产的批次）等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成本计算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时间段落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生产费用在完工产品与在产品之间的分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1" lang="zh-CN" sz="2900" spc="-1" strike="noStrike">
                <a:solidFill>
                  <a:srgbClr val="6600cc"/>
                </a:solidFill>
                <a:latin typeface="黑体"/>
                <a:ea typeface="黑体"/>
              </a:rPr>
              <a:t>生产组织特点和管理要求对产品成本计算的影响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大量生产：大量生产同一种产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大批生产：产量较大，品种相对稳定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小批生产：批量较小且同批产品大多同时完工，因此可按产品的批别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单件生产：生产按件组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按产品的批别（或件别）计算产品成本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生产工艺和管理要求对成本计算的影响</a:t>
            </a:r>
            <a:r>
              <a:rPr b="0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052640"/>
            <a:ext cx="88200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单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以会计报告期作为成本计算期，每月月末定期计算产品成本；一般没有月末在产品，因此不需计算月末在产品成本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连续式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品种及其生产步骤作为产品成本计算对象；在每月月末定期计算产品成本；一般各生产步骤在月末都会有一定的在产品，要求在月末将生产费用在完工产品和月末在产品之间进行分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1:11:45Z</dcterms:created>
  <dc:creator>番茄花园</dc:creator>
  <dc:description/>
  <dc:language>en-US</dc:language>
  <cp:lastModifiedBy>Administrator</cp:lastModifiedBy>
  <dcterms:modified xsi:type="dcterms:W3CDTF">2022-05-11T01:56:18Z</dcterms:modified>
  <cp:revision>49</cp:revision>
  <dc:subject/>
  <dc:title>第七章   成本计算方法概述</dc:title>
</cp:coreProperties>
</file>